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A195-55C6-4883-BA29-6C2009335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in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k 2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ed full or partial citize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 and leg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loyalty in conquered Italian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by King Pyrrhus (pyrrhic victo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colo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in strategic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by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sent when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s of the area left i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ies were mostly for trade, with some military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in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k 2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ed full or partial citize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 and leg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loyalty in conquered Italian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by King Pyrrhus (pyrrhic victo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colo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in strategic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by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sent when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s of the area left i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ies were mostly for trade, with some military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of non-Roman Italians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of non-Roman Italians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 rather than servants or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, direct attacks with strong determination and 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 rather than servants or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, direct attacks with strong determination and 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"empir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a republican form of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and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rties eme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res (conservatives, Cato and Cice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es (power to peo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(according to the Rom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g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gr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eous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q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"empir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a republican form of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and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rties eme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res (conservatives, Cato and Cice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es (power to peo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(according to the Rom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g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gr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eous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q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ence of men a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gained economi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divorce and retain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als eventually eroded, in part because home-life er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ence of men a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gained economi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divorce and retain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als eventually eroded, in part because home-life er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 increas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the number of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ed 40%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h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wer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feared slave up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 took jobs from the plebs so plebs were given food and other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 increas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the number of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ed 40%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h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wer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feared slave up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 took jobs from the plebs so plebs were given food and other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the army to override cou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the army to override cou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-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to aristocratic fam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ia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 that he descended from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for partying and sexual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d by pirates and held for rans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area and killed pi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to a series of governm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e of Alex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-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to aristocratic fam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ia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 that he descended from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for partying and sexual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d by pirates and held for rans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area and killed pi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to a series of governm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e of Alex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umvi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ised for his work in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 in Gaul (conqu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ance with Crassus and Pompey to form the triumvirate (not initially, but later el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alry with Pompey after death of Cras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the Rub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rising in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i, vidi, vici—I came, I saw, I conqu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opa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umvi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ised for his work in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 in Gaul (conqu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ance with Crassus and Pompey to form the triumvirate (not initially, but later el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alry with Pompey after death of Cras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the Rub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rising in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i, vidi, vici—I came, I saw, I conqu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opa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Rome as a conquering h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on for each territory on a different day (Gaul, Africa, Spain, Asia) and games for many additional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red crown (as emperor) twice and refused it when people didn't respond favora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ator (rule by one m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for 10 years and then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’s plans for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endar (Ju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ies, theaters, other public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itizenship to people in Spain and Ga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Rome as a conquering h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on for each territory on a different day (Gaul, Africa, Spain, Asia) and games for many additional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red crown (as emperor) twice and refused it when people didn't respond favora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ator (rule by one m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for 10 years and then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’s plans for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endar (Ju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ies, theaters, other public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itizenship to people in Spain and Ga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le of Aeneas (The Aene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o at Carthage and other travels (like The Odyss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s from 11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le of Aeneas (The Aene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o at Carthage and other travels (like The Odyss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s from 11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rder of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led by senatorial op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gated by his usurpation of power and their fear that he would become empe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 March 15, 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bed by 20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tus—illegitimate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Anthony and Octav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lied against the conspi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rder of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led by senatorial op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gated by his usurpation of power and their fear that he would become empe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 March 15, 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bed by 20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tus—illegitimate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Anthony and Octav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lied against the conspi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eliminate enemies and impose one’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 and 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, use of the army to override councils, 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eliminate enemies and impose one’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 and 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, use of the army to override councils, 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conquered Greece 150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took on much Greek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and goddesses parall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had Indo-European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conquered Greece 150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took on much Greek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and goddesses parall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had Indo-European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ver other powers and then direct conquest to subdue the local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continued throug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republic and empire peri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terix and Obel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ver other powers and then direct conquest to subdue the local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continued throug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republic and empire peri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terix and Obel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nough land to support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were needed and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sition of wheat and other foods became a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Carthage provided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was a 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ng profits made many Romans 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s of wealth and pov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 did not have to pay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nough land to support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were needed and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sition of wheat and other foods became a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Carthage provided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was a 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ng profits made many Romans 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s of wealth and pov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 did not have to pay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s against the Latins (like The Illi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 of the Sabine Women (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s against the Latins (like The Illi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 of the Sabine Women (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ty (Kingdom)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an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n princess was Vestal vir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d by Mars, bore twin bo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ed killed by non-Latin 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led by a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and founded a city (753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kille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truscans conquered the Romans (non-Latin 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eventually overthrew Etruscans and establish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ins of home of king (Romulus?) date from 8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ty (Kingdom)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an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n princess was Vestal vir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d by Mars, bore twin bo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ed killed by non-Latin 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led by a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and founded a city (753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kille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truscans conquered the Romans (non-Latin 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eventually overthrew Etruscans and establish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ins of home of king (Romulus?) date from 8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es became legends for Romans throughout their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es became legends for Romans throughout their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a senate and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QR= Senate and the People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(patricians) appointed consuls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affairs and the mil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access by the people to the cons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(plebs) organized by tribes and they elected 10 trib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ed local aff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veto power (individu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a senate and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QR= Senate and the People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(patricians) appointed consuls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affairs and the mil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access by the people to the cons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(plebs) organized by tribes and they elected 10 trib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ed local aff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veto power (individu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lanced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made laws but advice was acce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power to appoint a person to solve a specific problem (He was a "speaker" or "dictator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censors (moral guardian/rank jud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ilium ple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ll the laws (called plebec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magistrates (administrators) and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tia Curiata/Centuriata – plebs and patr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d the emporium (military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 in the forum (looked over each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tifex Maxi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us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lanced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made laws but advice was acce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power to appoint a person to solve a specific problem (He was a "speaker" or "dictator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censors (moral guardian/rank jud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ilium ple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ll the laws (called plebec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magistrates (administrators) and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tia Curiata/Centuriata – plebs and patr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d the emporium (military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 in the forum (looked over each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tifex Maxi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us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s with US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of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and House of 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 (= presi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une (veto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s (indepen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powe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s with US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of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and House of 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 (= presi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une (veto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s (indepen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powe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uries — 100 arme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by Centurian (from the ran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les—3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move quickly through difficult terrain (better than phalan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decisions (tribu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ons—groups of Man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0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by light ca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for individual insub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mation for cowar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uries — 100 arme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by Centurian (from the ran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les—3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move quickly through difficult terrain (better than phalan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decisions (tribu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ons—groups of Man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0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by light ca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for individual insub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mation for cowar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E6B5-088A-4617-94DE-034E18A53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CA4D-A236-48B8-9A89-8A2E41F5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296F-A5D7-4BB1-ABFB-09AC3BEAD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5546-8C7A-4D8A-B612-E0662B93A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BE39-B3E3-4912-8571-6CD853FE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4DB3-E8C7-45DC-ADE0-421CF391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F897-73AA-4684-8F98-E1720434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4A2C-2D3C-4651-A382-1BD5C7B2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D5AF-6C87-457B-9CD8-5943B5A8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2EDB-7CC4-45CA-BE3F-406CECD5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EB83-0DB6-4231-9AF4-8D7D577A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564D-8828-42C0-9BB8-D39A3D6F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D634-3F36-40F7-99A1-18931941E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oman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spqr"/>
          <p:cNvPicPr/>
          <p:nvPr/>
        </p:nvPicPr>
        <p:blipFill>
          <a:blip r:embed="rId1"/>
          <a:stretch/>
        </p:blipFill>
        <p:spPr>
          <a:xfrm>
            <a:off x="1828800" y="2514600"/>
            <a:ext cx="55627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Roman Expansion (in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quest of 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ok 20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Granted full or partial citize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x and leg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veloped loyalty in conquered Italia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vasion by King Pyrrhus (pyrrhic vict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an colo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stablished in strategic 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ablished by trea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oops sent when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ustoms of the area left i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lonies were mostly for trade, with some military purp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exp1"/>
          <p:cNvPicPr/>
          <p:nvPr/>
        </p:nvPicPr>
        <p:blipFill>
          <a:blip r:embed="rId1"/>
          <a:stretch/>
        </p:blipFill>
        <p:spPr>
          <a:xfrm>
            <a:off x="4800600" y="990720"/>
            <a:ext cx="3962520" cy="265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exp5"/>
          <p:cNvPicPr/>
          <p:nvPr/>
        </p:nvPicPr>
        <p:blipFill>
          <a:blip r:embed="rId2"/>
          <a:stretch/>
        </p:blipFill>
        <p:spPr>
          <a:xfrm>
            <a:off x="4724280" y="3886200"/>
            <a:ext cx="403884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lp of non-Roman Italians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map_punic_wars.gif"/>
          <p:cNvPicPr/>
          <p:nvPr/>
        </p:nvPicPr>
        <p:blipFill>
          <a:blip r:embed="rId1"/>
          <a:stretch/>
        </p:blipFill>
        <p:spPr>
          <a:xfrm>
            <a:off x="3809880" y="1195560"/>
            <a:ext cx="53341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lies rather than servants or sl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ol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ast, direct attacks with strong determination and 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exp12"/>
          <p:cNvPicPr/>
          <p:nvPr/>
        </p:nvPicPr>
        <p:blipFill>
          <a:blip r:embed="rId1"/>
          <a:stretch/>
        </p:blipFill>
        <p:spPr>
          <a:xfrm>
            <a:off x="4114800" y="1676520"/>
            <a:ext cx="502920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ucture of the "empir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ill a republican form of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ecks and bal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parties emer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timares (conservatives, Cato and Cice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pulares (power to peo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(according to the Rom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ug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gree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ghteous w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ver q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cato"/>
          <p:cNvPicPr/>
          <p:nvPr/>
        </p:nvPicPr>
        <p:blipFill>
          <a:blip r:embed="rId1"/>
          <a:stretch/>
        </p:blipFill>
        <p:spPr>
          <a:xfrm>
            <a:off x="7086600" y="3352680"/>
            <a:ext cx="18572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us of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ce of men at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men gained economic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divorce and retain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als eventually eroded, in part because home-life er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girl_peplos2"/>
          <p:cNvPicPr/>
          <p:nvPr/>
        </p:nvPicPr>
        <p:blipFill>
          <a:blip r:embed="rId1"/>
          <a:stretch/>
        </p:blipFill>
        <p:spPr>
          <a:xfrm>
            <a:off x="6400800" y="1219320"/>
            <a:ext cx="2523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s increase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the number of s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tituted 40% of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itions were p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mans feared slave upr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laves took jobs from the plebs so plebs were given food and other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slaves2"/>
          <p:cNvPicPr/>
          <p:nvPr/>
        </p:nvPicPr>
        <p:blipFill>
          <a:blip r:embed="rId1"/>
          <a:srcRect l="0" t="2520" r="0" b="4401"/>
          <a:stretch/>
        </p:blipFill>
        <p:spPr>
          <a:xfrm>
            <a:off x="5257800" y="1676520"/>
            <a:ext cx="3733920" cy="26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llapse of the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election to consulate (many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ing 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ption of dictator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of the army to override counc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scriptio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Julius Caesa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100-44 B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rn to aristocratic 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esarian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gend that he descended from the g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n for partying and sexual appe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ptured by pirates and held for rans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urned to area and killed pi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ointed to a series of government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ue of Alexa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julcaes"/>
          <p:cNvPicPr/>
          <p:nvPr/>
        </p:nvPicPr>
        <p:blipFill>
          <a:blip r:embed="rId1"/>
          <a:srcRect l="0" t="3231" r="6104" b="3231"/>
          <a:stretch/>
        </p:blipFill>
        <p:spPr>
          <a:xfrm>
            <a:off x="7010280" y="228600"/>
            <a:ext cx="1905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umvi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aised for his work in 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ointed governor in Gaul (conqu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iance with Crassus and Pompey to form the triumvirate (not initially, but later elec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valry with Pompey after death of Cra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ossing the Rub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prising in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ni, vidi, vici—I came, I saw, I conqu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quest of Egy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eopa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jcaesar_coin"/>
          <p:cNvPicPr/>
          <p:nvPr/>
        </p:nvPicPr>
        <p:blipFill>
          <a:blip r:embed="rId1"/>
          <a:stretch/>
        </p:blipFill>
        <p:spPr>
          <a:xfrm>
            <a:off x="6248520" y="228600"/>
            <a:ext cx="259056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ed to Rome as a conquering h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ion for each territory on a different day (Gaul, Africa, Spain, Asia) and games for many additional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fered crown (as emperor) twice and refused it when people didn't respond favora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ctator (rule by one m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ointed for 10 years and then fo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esar’s plans for 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endar (Ju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braries, theaters, other public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ve citizenship to people in Spain and Ga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Roma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ale of Aenea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Aenei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do at Carthage and other travels (lik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Odysse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torical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lements from 1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entury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aeneid"/>
          <p:cNvPicPr/>
          <p:nvPr/>
        </p:nvPicPr>
        <p:blipFill>
          <a:blip r:embed="rId1"/>
          <a:stretch/>
        </p:blipFill>
        <p:spPr>
          <a:xfrm>
            <a:off x="1523880" y="2971800"/>
            <a:ext cx="60199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rder of Cae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lled by senatorial op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igated by his usurpation of power and their fear that he would become empe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ed March 15, 44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bbed by 20 sen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utus—illegitimate 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 Anthony and Octav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llied against the conspi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romanhist10"/>
          <p:cNvPicPr/>
          <p:nvPr/>
        </p:nvPicPr>
        <p:blipFill>
          <a:blip r:embed="rId1"/>
          <a:stretch/>
        </p:blipFill>
        <p:spPr>
          <a:xfrm>
            <a:off x="5435640" y="1066680"/>
            <a:ext cx="33512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llapse of the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olence used to eliminate enemies and impose one’s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cch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election to consulate (many times) and standing 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ption of dictator powers, use of the army to override councils, proscriptio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oman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me conquered Greece 150 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mans took on much Greek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ds and goddesses parallel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ds had Indo-European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RomanWorld133BC-display"/>
          <p:cNvPicPr/>
          <p:nvPr/>
        </p:nvPicPr>
        <p:blipFill>
          <a:blip r:embed="rId1"/>
          <a:srcRect l="1453" t="1912" r="1093" b="12539"/>
          <a:stretch/>
        </p:blipFill>
        <p:spPr>
          <a:xfrm>
            <a:off x="304920" y="228600"/>
            <a:ext cx="853416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nqu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 over other powers and then direct conquest to subdue the local tri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 continued through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republic and empire perio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asterix"/>
          <p:cNvPicPr/>
          <p:nvPr/>
        </p:nvPicPr>
        <p:blipFill>
          <a:blip r:embed="rId1"/>
          <a:stretch/>
        </p:blipFill>
        <p:spPr>
          <a:xfrm>
            <a:off x="6473880" y="3429000"/>
            <a:ext cx="2450880" cy="32288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3553200" y="5029200"/>
            <a:ext cx="263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sterix and Obeli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cono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enough land to support th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rmers were needed and res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quisition of wheat and other foods became a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ctory over Carthage provided more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me was a consu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ding profits made many Romans 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remes of wealth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itizens did not have to pay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sabine-women"/>
          <p:cNvPicPr/>
          <p:nvPr/>
        </p:nvPicPr>
        <p:blipFill>
          <a:blip r:embed="rId1"/>
          <a:stretch/>
        </p:blipFill>
        <p:spPr>
          <a:xfrm>
            <a:off x="1752480" y="2895480"/>
            <a:ext cx="5067360" cy="3740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Roma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s against the Latins (lik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Illi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e of the Sabine Wom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acques Louis Da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City (Kingdom)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of 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334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mulus and Re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tin princess was Vestal vir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ped by Mars, bore twin bo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dered killed by non-Latin 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kled by a wo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ew and founded a city (753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ulus killed Re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toric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truscans conquered the Romans (non-Latin 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ans eventually overthrew Etruscans and established kingd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ins of home of king (Romulus?) date from 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entury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dc1"/>
          <p:cNvPicPr/>
          <p:nvPr/>
        </p:nvPicPr>
        <p:blipFill>
          <a:blip r:embed="rId1"/>
          <a:srcRect l="1917" t="11720" r="6006" b="8280"/>
          <a:stretch/>
        </p:blipFill>
        <p:spPr>
          <a:xfrm>
            <a:off x="5257800" y="2362320"/>
            <a:ext cx="365760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038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tories became legends for Romans throughout their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The image “http://www.louvre.fr/img/photos/collec/peint/grande/inv3692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4419720" y="2971800"/>
            <a:ext cx="4724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Republican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d by a senate and the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QR= Senate and the People of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ate (patricians) appointed consul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1 ye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eign affairs and the mil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rect access by the people to the cons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ople (plebs) organized by tribes and they elected 10 tribu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verned local aff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d veto power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individual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SPQR"/>
          <p:cNvPicPr/>
          <p:nvPr/>
        </p:nvPicPr>
        <p:blipFill>
          <a:blip r:embed="rId1"/>
          <a:srcRect l="14584" t="15062" r="13540" b="6679"/>
          <a:stretch/>
        </p:blipFill>
        <p:spPr>
          <a:xfrm>
            <a:off x="5791320" y="4381560"/>
            <a:ext cx="33526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Constitution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(balanced pow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ver made laws but advice was acce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d power to appoint a person to solve a specific problem (He was a "speaker" or "dictator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censors (moral guardian/rank jud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govern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ncilium ple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d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laws (call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lebecit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cted magistrates (administrators) and ju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mitia Curiata/Centuriata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ebs and patr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itted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mporiu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military pow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met in the forum (looked over each ot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ontifex Maxi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igious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enate"/>
          <p:cNvPicPr/>
          <p:nvPr/>
        </p:nvPicPr>
        <p:blipFill>
          <a:blip r:embed="rId1"/>
          <a:stretch/>
        </p:blipFill>
        <p:spPr>
          <a:xfrm>
            <a:off x="5181480" y="152280"/>
            <a:ext cx="37530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s with US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lance of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ate and House of Represent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ul (= presid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bune (veto pow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urts (independ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litary power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sor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U"/>
          <p:cNvPicPr/>
          <p:nvPr/>
        </p:nvPicPr>
        <p:blipFill>
          <a:blip r:embed="rId1"/>
          <a:stretch/>
        </p:blipFill>
        <p:spPr>
          <a:xfrm>
            <a:off x="5638680" y="4300560"/>
            <a:ext cx="327672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Military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019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turies — 100 armed 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ded by Centurian (from the ran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iples—3 Cent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uld move quickly through difficult terrain (better than phala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ependent decisions (tribu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gions—groups of Man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000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ed by light caval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ip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ath for individual insub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imation for cowar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caesar-m"/>
          <p:cNvPicPr/>
          <p:nvPr/>
        </p:nvPicPr>
        <p:blipFill>
          <a:blip r:embed="rId1"/>
          <a:stretch/>
        </p:blipFill>
        <p:spPr>
          <a:xfrm>
            <a:off x="6324480" y="1295280"/>
            <a:ext cx="254016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21:31:48Z</dcterms:created>
  <dc:creator>strongb</dc:creator>
  <dc:description/>
  <dc:language>en-US</dc:language>
  <cp:lastModifiedBy>RomaK</cp:lastModifiedBy>
  <dcterms:modified xsi:type="dcterms:W3CDTF">2015-09-04T09:33:12Z</dcterms:modified>
  <cp:revision>43</cp:revision>
  <dc:subject/>
  <dc:title>Corporate Creativity</dc:title>
</cp:coreProperties>
</file>